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0859-4198-496F-854D-737725B3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1EF4-3FA1-46E1-A64C-5CCD9C6A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73D9-2568-4776-9574-06EA54A5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6E9-745F-4613-8039-9CCE0552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784C-5858-414F-BB73-658E55E5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C07-1104-4EBE-A66C-CB47784B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BB9B-D0EC-4DA8-8FAA-83D149D0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A07-5461-49C5-9EE3-85B3784A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0588-7C09-4C1D-820A-BAEF8091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BAF5-5F2B-4CC2-99AD-38D3E725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378E-CFCB-493C-BFE9-3AF1BDFD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905A-D5B3-45F8-903F-AD0C40C6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5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7C69-1566-4F61-8128-2CAC34155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ndefinite Articles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lural of Nou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What is an Indefinite Artic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he English Indefinite Articles 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, an, and So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 French, the indefinite articles 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2d050"/>
                </a:solidFill>
                <a:latin typeface="Calibri"/>
              </a:rPr>
              <a:t>Un, 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une</a:t>
            </a: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nd </a:t>
            </a:r>
            <a:r>
              <a:rPr b="0" lang="fr-FR" sz="2800" spc="-1" strike="noStrike">
                <a:solidFill>
                  <a:srgbClr val="0070c0"/>
                </a:solidFill>
                <a:latin typeface="Calibri"/>
              </a:rPr>
              <a:t>des</a:t>
            </a: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asculine and Femini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 French, unlike in English, there are nouns that are </a:t>
            </a:r>
            <a:r>
              <a:rPr b="0" lang="fr-FR" sz="3200" spc="-1" strike="noStrike">
                <a:solidFill>
                  <a:srgbClr val="0070c0"/>
                </a:solidFill>
                <a:latin typeface="Calibri"/>
              </a:rPr>
              <a:t>MASCULIN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nd nouns that are </a:t>
            </a:r>
            <a:r>
              <a:rPr b="0" lang="fr-FR" sz="3200" spc="-1" strike="noStrike">
                <a:solidFill>
                  <a:srgbClr val="b3a2c7"/>
                </a:solidFill>
                <a:latin typeface="Calibri"/>
              </a:rPr>
              <a:t>FEMIN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3a2c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b3a2c7"/>
                </a:solidFill>
                <a:latin typeface="Calibri"/>
              </a:rPr>
              <a:t>une fenêtre</a:t>
            </a:r>
            <a:r>
              <a:rPr b="0" lang="fr-FR" sz="2800" spc="-1" strike="noStrike">
                <a:solidFill>
                  <a:srgbClr val="b3a2c7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b3a2c7"/>
                </a:solidFill>
                <a:latin typeface="Calibri"/>
              </a:rPr>
              <a:t>une por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b0f0"/>
                </a:solidFill>
                <a:latin typeface="Calibri"/>
              </a:rPr>
              <a:t>un tableau</a:t>
            </a:r>
            <a:r>
              <a:rPr b="0" lang="fr-FR" sz="28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b0f0"/>
                </a:solidFill>
                <a:latin typeface="Calibri"/>
              </a:rPr>
              <a:t>un burea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99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d99694"/>
                </a:solidFill>
                <a:latin typeface="Calibri"/>
              </a:rPr>
              <a:t>des fenêtres </a:t>
            </a:r>
            <a:r>
              <a:rPr b="0" lang="fr-FR" sz="2800" spc="-1" strike="noStrike">
                <a:solidFill>
                  <a:srgbClr val="d99694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d99694"/>
                </a:solidFill>
                <a:latin typeface="Calibri"/>
              </a:rPr>
              <a:t>des portes</a:t>
            </a:r>
            <a:r>
              <a:rPr b="0" lang="fr-FR" sz="2800" spc="-1" strike="noStrike">
                <a:solidFill>
                  <a:srgbClr val="d99694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d99694"/>
                </a:solidFill>
                <a:latin typeface="Calibri"/>
              </a:rPr>
              <a:t>des tablea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a2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hy, you may ask? Well, there’s no good answer except for it’s a part of their langu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With Nu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RREC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l y a deux fenêtres ; il y a trois tablea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CORREC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l y a des deux fenêtres; il y a un trois tableau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f there aren’t any of an i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l n’y a pas de 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l n’y a pas de fenêt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l n’y a pas des fenêtr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aking Nouns Pl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st of the time, you’ll just add an s like in Engl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 fenêtre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deux fenêt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horloge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inq horlog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ableau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deux tableauX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20:48:37Z</dcterms:created>
  <dc:creator>Robbie</dc:creator>
  <dc:description/>
  <dc:language>en-US</dc:language>
  <cp:lastModifiedBy>Robbie</cp:lastModifiedBy>
  <dcterms:modified xsi:type="dcterms:W3CDTF">2012-09-03T12:54:14Z</dcterms:modified>
  <cp:revision>1</cp:revision>
  <dc:subject/>
  <dc:title>Indefinite Articles  Plural of Nouns</dc:title>
</cp:coreProperties>
</file>